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BEC-78EF-43DC-965D-65855552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2E3-8F57-450A-81C2-490AB509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DDD3-11DB-49EA-BE11-61DD1F25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5AF-5520-4D3C-AA70-2604E3DD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EFCE-9C20-4B74-A737-95C4146E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800D-4072-4332-912F-F7F18074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0266-6226-4ED6-80F5-234BB3E6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B155-1E38-4882-A0CE-8792140E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DACF-43EC-4EF1-A942-DEBD42AD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ED61-BF70-4DBF-8BA4-3794226E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11F1-8034-484D-B758-453A8473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081-DA46-47D1-BB4A-F59EF50A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A762-7044-4C5B-B4AD-07D64E0B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FA3F-A2E6-40E2-9EC1-BB4A0CF0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CEC5-86E4-4F78-BEB1-0BE80735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1D76-526C-459D-BBB4-59C50CFB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12D5-D914-4F2E-9957-FBCCC3A8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574-751E-4C58-A842-625D5792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243-2194-4E8C-97CE-9ABBE87F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882A-97D6-4FBE-80A0-5F2A4C2A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2663-492F-4879-AF59-C9C88AE5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9098-6FC5-4992-92F4-F3446FA7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A88B-C576-4A81-BA8A-A9DAD080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01E9-4936-4092-8E00-5F4D749F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477539"/>
                </a:gs>
                <a:gs pos="100000">
                  <a:srgbClr val="9cff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9cff7c"/>
                </a:gs>
                <a:gs pos="100000">
                  <a:srgbClr val="4775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1D25-577E-4B8F-95D3-6BD846948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9cff7c"/>
                </a:gs>
                <a:gs pos="100000">
                  <a:srgbClr val="4775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477539"/>
                </a:gs>
                <a:gs pos="100000">
                  <a:srgbClr val="9cff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E818-E565-4D31-A902-E05FC30B6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Motorcycle Vocabulary</a:t>
            </a:r>
            <a:br>
              <a:rPr sz="4400"/>
            </a:br>
            <a:r>
              <a:rPr b="0" lang="en-US" sz="1800" spc="-1" strike="noStrike">
                <a:solidFill>
                  <a:srgbClr val="181848"/>
                </a:solidFill>
                <a:latin typeface="Times New Roman"/>
              </a:rPr>
              <a:t>Introducing vocabulary idea, from Mentoring Minds</a:t>
            </a:r>
            <a:endParaRPr b="0" lang="en-US" sz="18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 out a ride down the open road while spelling and saying the w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Motorcycle Vocabulary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new vocabulary word up for disp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say the word alo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pretend to get onto their motorcy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then spell the vocabulary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letters are done students pretend to crank up the bike and ride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5:34:16Z</dcterms:created>
  <dc:creator>Ann Weeks</dc:creator>
  <dc:description/>
  <dc:language>en-US</dc:language>
  <cp:lastModifiedBy>Ann Weeks</cp:lastModifiedBy>
  <dcterms:modified xsi:type="dcterms:W3CDTF">2008-06-29T15:48:54Z</dcterms:modified>
  <cp:revision>6</cp:revision>
  <dc:subject/>
  <dc:title>Basket Ball Vocabulary Introducing vocabulary idea, from Mentoring Minds</dc:title>
</cp:coreProperties>
</file>